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2.gif" ContentType="image/gif"/>
  <Override PartName="/ppt/media/image7.gif" ContentType="image/gif"/>
  <Override PartName="/ppt/media/jetflyby2.wav" ContentType="audio/x-wav"/>
  <Override PartName="/ppt/media/zipdn102.wav" ContentType="audio/x-wav"/>
  <Override PartName="/ppt/media/zapbig0g.wav" ContentType="audio/x-wav"/>
  <Override PartName="/ppt/media/image1.gif" ContentType="image/gif"/>
  <Override PartName="/ppt/media/fastcar.wav" ContentType="audio/x-wav"/>
  <Override PartName="/ppt/media/image3.gif" ContentType="image/gif"/>
  <Override PartName="/ppt/media/hzipup01.wav" ContentType="audio/x-wav"/>
  <Override PartName="/ppt/media/highchime.wav" ContentType="audio/x-wav"/>
  <Override PartName="/ppt/media/caralarmoff.wav" ContentType="audio/x-wav"/>
  <Override PartName="/ppt/media/image4.gif" ContentType="image/gif"/>
  <Override PartName="/ppt/media/image5.gif" ContentType="image/gif"/>
  <Override PartName="/ppt/media/lzipup01.wav" ContentType="audio/x-wav"/>
  <Override PartName="/ppt/media/bserie06.wav" ContentType="audio/x-wav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636A-A167-4D20-8613-EF3E339E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74F-5A85-4DC0-A0E7-4F1C743B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4A46-FE4B-4897-B5C7-911A7D43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37E-469F-4389-99C3-B43B4CFC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0E3-5F66-4256-A12E-6EF9082F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B96-474C-488B-B5B4-80D6E352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18E-2F08-4B04-84F9-BD7D2A5D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BAF-A386-4FD2-AFDA-8A13D062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4CE2-2B40-47BD-B748-F4EA690A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0D0-7631-4087-B5F7-1C6F2D71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F284-EE39-4F1F-9880-29C07755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0C2-F30E-4DB4-B81A-E79CE203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DFA6-105A-4B1C-96B7-12793F8DE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caralarmoff.wav"/><Relationship Id="rId7" Type="http://schemas.openxmlformats.org/officeDocument/2006/relationships/audio" Target="../media/hzipup01.wav"/><Relationship Id="rId8" Type="http://schemas.openxmlformats.org/officeDocument/2006/relationships/audio" Target="../media/highchime.wav"/><Relationship Id="rId9" Type="http://schemas.openxmlformats.org/officeDocument/2006/relationships/audio" Target="../media/hzipup01.wav"/><Relationship Id="rId10" Type="http://schemas.openxmlformats.org/officeDocument/2006/relationships/audio" Target="../media/highchime.wav"/><Relationship Id="rId11" Type="http://schemas.openxmlformats.org/officeDocument/2006/relationships/audio" Target="../media/hzipup01.wav"/><Relationship Id="rId12" Type="http://schemas.openxmlformats.org/officeDocument/2006/relationships/audio" Target="../media/highchime.wav"/><Relationship Id="rId13" Type="http://schemas.openxmlformats.org/officeDocument/2006/relationships/audio" Target="../media/hzipup01.wav"/><Relationship Id="rId14" Type="http://schemas.openxmlformats.org/officeDocument/2006/relationships/audio" Target="../media/highchime.wav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zipdn102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zapbig0g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hzipup01.wav"/><Relationship Id="rId4" Type="http://schemas.openxmlformats.org/officeDocument/2006/relationships/audio" Target="../media/zipdn102.wav"/><Relationship Id="rId5" Type="http://schemas.openxmlformats.org/officeDocument/2006/relationships/audio" Target="../media/bserie06.wav"/><Relationship Id="rId6" Type="http://schemas.openxmlformats.org/officeDocument/2006/relationships/audio" Target="../media/zapbig0g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fastcar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ipdn102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ipdn102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zipdn10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audio" Target="../media/zapbig0g.wav"/><Relationship Id="rId4" Type="http://schemas.openxmlformats.org/officeDocument/2006/relationships/audio" Target="../media/caralarmoff.wav"/><Relationship Id="rId5" Type="http://schemas.openxmlformats.org/officeDocument/2006/relationships/audio" Target="../media/hzipup01.wav"/><Relationship Id="rId6" Type="http://schemas.openxmlformats.org/officeDocument/2006/relationships/audio" Target="../media/highchime.wav"/><Relationship Id="rId7" Type="http://schemas.openxmlformats.org/officeDocument/2006/relationships/audio" Target="../media/hzipup01.wav"/><Relationship Id="rId8" Type="http://schemas.openxmlformats.org/officeDocument/2006/relationships/audio" Target="../media/highchime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audio" Target="../media/zapbig0g.wav"/><Relationship Id="rId5" Type="http://schemas.openxmlformats.org/officeDocument/2006/relationships/audio" Target="../media/caralarmoff.wav"/><Relationship Id="rId6" Type="http://schemas.openxmlformats.org/officeDocument/2006/relationships/audio" Target="../media/hzipup01.wav"/><Relationship Id="rId7" Type="http://schemas.openxmlformats.org/officeDocument/2006/relationships/audio" Target="../media/highchime.wav"/><Relationship Id="rId8" Type="http://schemas.openxmlformats.org/officeDocument/2006/relationships/audio" Target="../media/hzipup01.wav"/><Relationship Id="rId9" Type="http://schemas.openxmlformats.org/officeDocument/2006/relationships/audio" Target="../media/highchime.wav"/><Relationship Id="rId10" Type="http://schemas.openxmlformats.org/officeDocument/2006/relationships/audio" Target="../media/hzipup01.wav"/><Relationship Id="rId11" Type="http://schemas.openxmlformats.org/officeDocument/2006/relationships/audio" Target="../media/highchime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caralarmoff.wav"/><Relationship Id="rId9" Type="http://schemas.openxmlformats.org/officeDocument/2006/relationships/audio" Target="../media/hzipup01.wav"/><Relationship Id="rId10" Type="http://schemas.openxmlformats.org/officeDocument/2006/relationships/audio" Target="../media/jetflyby2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zipdn102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zapbig0g.wav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zapbig0g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zipdn102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zipdn102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108320" y="2724120"/>
            <a:ext cx="1128960" cy="1701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79680" y="3716280"/>
            <a:ext cx="1673280" cy="2090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Metric Units of Measu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09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L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584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mmon Uni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1960" y="228600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millimeter (m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94200" y="1892160"/>
            <a:ext cx="909720" cy="90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65640" y="230040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ckness of a d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1960" y="31240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entimeter (c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19560" y="3138480"/>
            <a:ext cx="40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idth of a thumbn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1960" y="410040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meter (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65640" y="4114800"/>
            <a:ext cx="39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from doorknob to fl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1960" y="56530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kilometer (k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65640" y="5667480"/>
            <a:ext cx="39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 little more than a half m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2880" y="3755880"/>
            <a:ext cx="67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7.  _____ m = 2.34 c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79560" y="4548240"/>
            <a:ext cx="61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.34 cm = ______ 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/>
          <p:nvPr/>
        </p:nvCxnSpPr>
        <p:spPr>
          <a:xfrm flipV="1" rot="16200000">
            <a:off x="6328800" y="2170800"/>
            <a:ext cx="48600" cy="1194480"/>
          </a:xfrm>
          <a:prstGeom prst="curvedConnector5">
            <a:avLst>
              <a:gd name="adj1" fmla="val -669402"/>
              <a:gd name="adj2" fmla="val 49984"/>
              <a:gd name="adj3" fmla="val -6694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/>
          <p:nvPr/>
        </p:nvCxnSpPr>
        <p:spPr>
          <a:xfrm flipV="1" rot="16200000">
            <a:off x="5003640" y="21852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/>
          <p:nvPr/>
        </p:nvCxnSpPr>
        <p:spPr>
          <a:xfrm flipV="1" rot="16200000">
            <a:off x="2167200" y="504972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03" name=""/>
          <p:cNvCxnSpPr/>
          <p:nvPr/>
        </p:nvCxnSpPr>
        <p:spPr>
          <a:xfrm flipV="1" rot="16200000">
            <a:off x="1768680" y="504828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4921200" y="4510080"/>
            <a:ext cx="245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.023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12880" y="3755880"/>
            <a:ext cx="67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.  _____ L = 6 m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90840" y="4610160"/>
            <a:ext cx="61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 mL = ______ 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/>
          <p:nvPr/>
        </p:nvCxnSpPr>
        <p:spPr>
          <a:xfrm flipV="1" rot="16200000">
            <a:off x="7531920" y="2170800"/>
            <a:ext cx="48600" cy="1194480"/>
          </a:xfrm>
          <a:prstGeom prst="curvedConnector5">
            <a:avLst>
              <a:gd name="adj1" fmla="val -669402"/>
              <a:gd name="adj2" fmla="val 49984"/>
              <a:gd name="adj3" fmla="val -6694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/>
          <p:nvPr/>
        </p:nvCxnSpPr>
        <p:spPr>
          <a:xfrm flipV="1" rot="16200000">
            <a:off x="6206760" y="21852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/>
          <p:nvPr/>
        </p:nvCxnSpPr>
        <p:spPr>
          <a:xfrm flipV="1" rot="16200000">
            <a:off x="4941720" y="21996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2759040" y="4443480"/>
            <a:ext cx="48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/>
          <p:nvPr/>
        </p:nvCxnSpPr>
        <p:spPr>
          <a:xfrm flipV="1" rot="16200000">
            <a:off x="2752920" y="508968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flipV="1" rot="16200000">
            <a:off x="2354760" y="508788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flipV="1" rot="16200000">
            <a:off x="1926000" y="50976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978440" y="4602240"/>
            <a:ext cx="17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.00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2880" y="3755880"/>
            <a:ext cx="67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9.  _____ cm = 2.15 k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25800" y="4610160"/>
            <a:ext cx="651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.15 km = ______ c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/>
          <p:nvPr/>
        </p:nvCxnSpPr>
        <p:spPr>
          <a:xfrm flipV="1" rot="16200000">
            <a:off x="1355400" y="21726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38" name=""/>
          <p:cNvCxnSpPr/>
          <p:nvPr/>
        </p:nvCxnSpPr>
        <p:spPr>
          <a:xfrm flipV="1" rot="16200000">
            <a:off x="2607840" y="21870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39" name=""/>
          <p:cNvCxnSpPr/>
          <p:nvPr/>
        </p:nvCxnSpPr>
        <p:spPr>
          <a:xfrm flipV="1" rot="16200000">
            <a:off x="3828600" y="21870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0" name=""/>
          <p:cNvCxnSpPr/>
          <p:nvPr/>
        </p:nvCxnSpPr>
        <p:spPr>
          <a:xfrm flipV="1" rot="16200000">
            <a:off x="5043240" y="21884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1" name=""/>
          <p:cNvCxnSpPr/>
          <p:nvPr/>
        </p:nvCxnSpPr>
        <p:spPr>
          <a:xfrm flipV="1" rot="16200000">
            <a:off x="6295680" y="22028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2" name=""/>
          <p:cNvCxnSpPr/>
          <p:nvPr/>
        </p:nvCxnSpPr>
        <p:spPr>
          <a:xfrm flipV="1" rot="16200000">
            <a:off x="2832480" y="50738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243" name=""/>
          <p:cNvCxnSpPr/>
          <p:nvPr/>
        </p:nvCxnSpPr>
        <p:spPr>
          <a:xfrm flipV="1" rot="16200000">
            <a:off x="3254760" y="50562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244" name=""/>
          <p:cNvCxnSpPr/>
          <p:nvPr/>
        </p:nvCxnSpPr>
        <p:spPr>
          <a:xfrm flipV="1" rot="16200000">
            <a:off x="3669120" y="50785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245" name=""/>
          <p:cNvCxnSpPr/>
          <p:nvPr/>
        </p:nvCxnSpPr>
        <p:spPr>
          <a:xfrm flipV="1" rot="16200000">
            <a:off x="4092840" y="5086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246" name=""/>
          <p:cNvCxnSpPr/>
          <p:nvPr/>
        </p:nvCxnSpPr>
        <p:spPr>
          <a:xfrm flipV="1" rot="16200000">
            <a:off x="4515120" y="506880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4978440" y="4602240"/>
            <a:ext cx="252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15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5200" y="3755880"/>
            <a:ext cx="728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0.  _____ mm = 45 c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9760" y="4643280"/>
            <a:ext cx="651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5 cm = ______ m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/>
          <p:nvPr/>
        </p:nvCxnSpPr>
        <p:spPr>
          <a:xfrm flipV="1" rot="16200000">
            <a:off x="7389360" y="214236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2911320" y="4538520"/>
            <a:ext cx="48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/>
          <p:nvPr/>
        </p:nvCxnSpPr>
        <p:spPr>
          <a:xfrm flipV="1" rot="16200000">
            <a:off x="3333960" y="521964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sp>
        <p:nvSpPr>
          <p:cNvPr id="263" name=""/>
          <p:cNvSpPr/>
          <p:nvPr/>
        </p:nvSpPr>
        <p:spPr>
          <a:xfrm>
            <a:off x="5176800" y="4602240"/>
            <a:ext cx="252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Write the metric unit that makes it tr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5200" y="3755880"/>
            <a:ext cx="728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1.  4.75 ____ = 475 c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17600" y="4857840"/>
            <a:ext cx="651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75 cm = 4.75 ____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4716360"/>
            <a:ext cx="48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/>
          <p:nvPr/>
        </p:nvCxnSpPr>
        <p:spPr>
          <a:xfrm flipV="1" rot="16200000">
            <a:off x="3194280" y="536256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78" name=""/>
          <p:cNvCxnSpPr/>
          <p:nvPr/>
        </p:nvCxnSpPr>
        <p:spPr>
          <a:xfrm flipV="1" rot="16200000">
            <a:off x="2795760" y="536112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79" name=""/>
          <p:cNvCxnSpPr/>
          <p:nvPr/>
        </p:nvCxnSpPr>
        <p:spPr>
          <a:xfrm flipV="1" rot="16200000">
            <a:off x="6358680" y="2170800"/>
            <a:ext cx="48600" cy="1194840"/>
          </a:xfrm>
          <a:prstGeom prst="curvedConnector5">
            <a:avLst>
              <a:gd name="adj1" fmla="val -669402"/>
              <a:gd name="adj2" fmla="val 50000"/>
              <a:gd name="adj3" fmla="val -6694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/>
          <p:nvPr/>
        </p:nvCxnSpPr>
        <p:spPr>
          <a:xfrm flipV="1" rot="16200000">
            <a:off x="5033520" y="21852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6532560" y="48164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Write the metric unit that makes it tr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5200" y="3755880"/>
            <a:ext cx="728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2.  2100 g = 2.1 ____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49400" y="3619440"/>
            <a:ext cx="48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/>
          <p:nvPr/>
        </p:nvCxnSpPr>
        <p:spPr>
          <a:xfrm flipV="1" rot="16200000">
            <a:off x="2843640" y="42656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95" name=""/>
          <p:cNvCxnSpPr/>
          <p:nvPr/>
        </p:nvCxnSpPr>
        <p:spPr>
          <a:xfrm flipV="1" rot="16200000">
            <a:off x="2445120" y="42642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96" name=""/>
          <p:cNvCxnSpPr/>
          <p:nvPr/>
        </p:nvCxnSpPr>
        <p:spPr>
          <a:xfrm flipV="1" rot="16200000">
            <a:off x="2016360" y="42735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97" name=""/>
          <p:cNvCxnSpPr/>
          <p:nvPr/>
        </p:nvCxnSpPr>
        <p:spPr>
          <a:xfrm flipV="1" rot="16200000">
            <a:off x="3874320" y="2154960"/>
            <a:ext cx="48600" cy="1194480"/>
          </a:xfrm>
          <a:prstGeom prst="curvedConnector5">
            <a:avLst>
              <a:gd name="adj1" fmla="val -669402"/>
              <a:gd name="adj2" fmla="val 49984"/>
              <a:gd name="adj3" fmla="val -6694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/>
          <p:nvPr/>
        </p:nvCxnSpPr>
        <p:spPr>
          <a:xfrm flipV="1" rot="16200000">
            <a:off x="2549160" y="216936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/>
          <p:nvPr/>
        </p:nvCxnSpPr>
        <p:spPr>
          <a:xfrm flipV="1" rot="16200000">
            <a:off x="1284120" y="218376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5403960" y="373392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k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Write the metric unit that makes it tr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5200" y="3755880"/>
            <a:ext cx="728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3.  14 cm = 140 ____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49560" y="3635280"/>
            <a:ext cx="48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76800" y="37656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m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/>
          <p:nvPr/>
        </p:nvCxnSpPr>
        <p:spPr>
          <a:xfrm flipV="1" rot="16200000">
            <a:off x="2572200" y="430524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315" name=""/>
          <p:cNvCxnSpPr/>
          <p:nvPr/>
        </p:nvCxnSpPr>
        <p:spPr>
          <a:xfrm flipV="1" rot="16200000">
            <a:off x="7389360" y="214236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Write the metric unit that makes it tr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5200" y="3755880"/>
            <a:ext cx="728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4.  2.1 ____ = 2,100 m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27240" y="4843440"/>
            <a:ext cx="651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,100 mL = 2.1 ____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43200" y="4764240"/>
            <a:ext cx="48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/>
          <p:nvPr/>
        </p:nvCxnSpPr>
        <p:spPr>
          <a:xfrm flipV="1" rot="16200000">
            <a:off x="2751480" y="53643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330" name=""/>
          <p:cNvCxnSpPr/>
          <p:nvPr/>
        </p:nvCxnSpPr>
        <p:spPr>
          <a:xfrm flipV="1" rot="16200000">
            <a:off x="2352960" y="536256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331" name=""/>
          <p:cNvCxnSpPr/>
          <p:nvPr/>
        </p:nvCxnSpPr>
        <p:spPr>
          <a:xfrm flipV="1" rot="16200000">
            <a:off x="1924560" y="5372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332" name=""/>
          <p:cNvCxnSpPr/>
          <p:nvPr/>
        </p:nvCxnSpPr>
        <p:spPr>
          <a:xfrm flipV="1" rot="16200000">
            <a:off x="7622640" y="2154960"/>
            <a:ext cx="48600" cy="1194480"/>
          </a:xfrm>
          <a:prstGeom prst="curvedConnector5">
            <a:avLst>
              <a:gd name="adj1" fmla="val -669402"/>
              <a:gd name="adj2" fmla="val 49984"/>
              <a:gd name="adj3" fmla="val -6694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"/>
          <p:cNvCxnSpPr/>
          <p:nvPr/>
        </p:nvCxnSpPr>
        <p:spPr>
          <a:xfrm flipV="1" rot="16200000">
            <a:off x="6297120" y="2169360"/>
            <a:ext cx="48240" cy="1194840"/>
          </a:xfrm>
          <a:prstGeom prst="curvedConnector5">
            <a:avLst>
              <a:gd name="adj1" fmla="val -669924"/>
              <a:gd name="adj2" fmla="val 50000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"/>
          <p:cNvCxnSpPr/>
          <p:nvPr/>
        </p:nvCxnSpPr>
        <p:spPr>
          <a:xfrm flipV="1" rot="16200000">
            <a:off x="5032080" y="218376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5846760" y="484992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1187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53, 3 – 7 #1-11, 12-38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12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27360" y="1717560"/>
            <a:ext cx="1490760" cy="2129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Metric Units of Measu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109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apa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584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mmon Uni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1960" y="228600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milliliter (m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65640" y="230040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5 drops of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1960" y="410040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liter (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65640" y="4114800"/>
            <a:ext cx="39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 little more than a qu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494080" y="3967200"/>
            <a:ext cx="25416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10000" y="5138640"/>
            <a:ext cx="118440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378160" y="3198960"/>
            <a:ext cx="2289240" cy="2117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478320" y="1903320"/>
            <a:ext cx="1736640" cy="1712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Metric Units of Measu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09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M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584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mmon Uni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1960" y="228600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milligram (m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65640" y="230040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peck of sawd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5760" y="408456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gram (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65640" y="411480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mass of a papercl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5760" y="545616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kilogram (k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65640" y="548640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mass of your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6200" y="4395960"/>
            <a:ext cx="635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.  236 m = _____ k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4" idx="2"/>
            <a:endCxn id="83" idx="2"/>
          </p:cNvCxnSpPr>
          <p:nvPr/>
        </p:nvCxnSpPr>
        <p:spPr>
          <a:xfrm flipV="1" rot="16200000">
            <a:off x="3890160" y="2216880"/>
            <a:ext cx="48600" cy="1194480"/>
          </a:xfrm>
          <a:prstGeom prst="curvedConnector5">
            <a:avLst>
              <a:gd name="adj1" fmla="val -669402"/>
              <a:gd name="adj2" fmla="val 49984"/>
              <a:gd name="adj3" fmla="val -6694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/>
          <p:nvPr/>
        </p:nvCxnSpPr>
        <p:spPr>
          <a:xfrm flipV="1" rot="16200000">
            <a:off x="2565000" y="223128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flipV="1" rot="16200000">
            <a:off x="1299960" y="224568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484360" y="4245120"/>
            <a:ext cx="48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/>
          <p:nvPr/>
        </p:nvCxnSpPr>
        <p:spPr>
          <a:xfrm flipV="1" rot="16200000">
            <a:off x="2478240" y="489096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 rot="16200000">
            <a:off x="2080080" y="48895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 flipV="1" rot="16200000">
            <a:off x="1651320" y="48992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033800" y="4327560"/>
            <a:ext cx="17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.23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40" y="4335480"/>
            <a:ext cx="67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.  45.1 cm = _____ 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/>
          <p:nvPr/>
        </p:nvCxnSpPr>
        <p:spPr>
          <a:xfrm flipV="1" rot="16200000">
            <a:off x="6328800" y="2170800"/>
            <a:ext cx="48600" cy="1194480"/>
          </a:xfrm>
          <a:prstGeom prst="curvedConnector5">
            <a:avLst>
              <a:gd name="adj1" fmla="val -669402"/>
              <a:gd name="adj2" fmla="val 49984"/>
              <a:gd name="adj3" fmla="val -6694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/>
          <p:nvPr/>
        </p:nvCxnSpPr>
        <p:spPr>
          <a:xfrm flipV="1" rot="16200000">
            <a:off x="5003640" y="21852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/>
          <p:nvPr/>
        </p:nvCxnSpPr>
        <p:spPr>
          <a:xfrm flipV="1" rot="16200000">
            <a:off x="2181600" y="48531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2" name=""/>
          <p:cNvCxnSpPr/>
          <p:nvPr/>
        </p:nvCxnSpPr>
        <p:spPr>
          <a:xfrm flipV="1" rot="16200000">
            <a:off x="1783080" y="485136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4587840" y="4313160"/>
            <a:ext cx="17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.45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6440" y="4335480"/>
            <a:ext cx="67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.  4.35 L = _____ m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/>
          <p:nvPr/>
        </p:nvCxnSpPr>
        <p:spPr>
          <a:xfrm flipV="1" rot="16200000">
            <a:off x="5043240" y="21884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6" name=""/>
          <p:cNvCxnSpPr/>
          <p:nvPr/>
        </p:nvCxnSpPr>
        <p:spPr>
          <a:xfrm flipV="1" rot="16200000">
            <a:off x="6295680" y="22028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4202280" y="4327560"/>
            <a:ext cx="178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,3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/>
          <p:nvPr/>
        </p:nvCxnSpPr>
        <p:spPr>
          <a:xfrm flipV="1" rot="16200000">
            <a:off x="7516440" y="22028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9" name=""/>
          <p:cNvCxnSpPr/>
          <p:nvPr/>
        </p:nvCxnSpPr>
        <p:spPr>
          <a:xfrm flipV="1" rot="16200000">
            <a:off x="2238840" y="48294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30" name=""/>
          <p:cNvCxnSpPr/>
          <p:nvPr/>
        </p:nvCxnSpPr>
        <p:spPr>
          <a:xfrm flipV="1" rot="16200000">
            <a:off x="2661120" y="48117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31" name=""/>
          <p:cNvCxnSpPr/>
          <p:nvPr/>
        </p:nvCxnSpPr>
        <p:spPr>
          <a:xfrm flipV="1" rot="16200000">
            <a:off x="3075480" y="48340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6440" y="4335480"/>
            <a:ext cx="67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.  0.23 kg = _____ 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/>
          <p:nvPr/>
        </p:nvCxnSpPr>
        <p:spPr>
          <a:xfrm flipV="1" rot="16200000">
            <a:off x="1279080" y="21884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4" name=""/>
          <p:cNvCxnSpPr/>
          <p:nvPr/>
        </p:nvCxnSpPr>
        <p:spPr>
          <a:xfrm flipV="1" rot="16200000">
            <a:off x="2531880" y="22028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4537080" y="4327560"/>
            <a:ext cx="17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/>
          <p:nvPr/>
        </p:nvCxnSpPr>
        <p:spPr>
          <a:xfrm flipV="1" rot="16200000">
            <a:off x="3752640" y="22028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7" name=""/>
          <p:cNvCxnSpPr/>
          <p:nvPr/>
        </p:nvCxnSpPr>
        <p:spPr>
          <a:xfrm flipV="1" rot="16200000">
            <a:off x="2238840" y="48294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48" name=""/>
          <p:cNvCxnSpPr/>
          <p:nvPr/>
        </p:nvCxnSpPr>
        <p:spPr>
          <a:xfrm flipV="1" rot="16200000">
            <a:off x="2661120" y="48117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49" name=""/>
          <p:cNvCxnSpPr/>
          <p:nvPr/>
        </p:nvCxnSpPr>
        <p:spPr>
          <a:xfrm flipV="1" rot="16200000">
            <a:off x="3075480" y="48340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6440" y="4335480"/>
            <a:ext cx="67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.  14 mm = _____ 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/>
          <p:nvPr/>
        </p:nvCxnSpPr>
        <p:spPr>
          <a:xfrm flipV="1" rot="16200000">
            <a:off x="7531920" y="2170800"/>
            <a:ext cx="48600" cy="1194480"/>
          </a:xfrm>
          <a:prstGeom prst="curvedConnector5">
            <a:avLst>
              <a:gd name="adj1" fmla="val -669402"/>
              <a:gd name="adj2" fmla="val 49984"/>
              <a:gd name="adj3" fmla="val -6694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 flipV="1" rot="16200000">
            <a:off x="6206760" y="21852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V="1" rot="16200000">
            <a:off x="4941720" y="21996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163600" y="4199040"/>
            <a:ext cx="48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 flipV="1" rot="16200000">
            <a:off x="2157840" y="48452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 flipV="1" rot="16200000">
            <a:off x="1759320" y="484344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V="1" rot="16200000">
            <a:off x="1330560" y="48531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4246560" y="4311720"/>
            <a:ext cx="17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.0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6440" y="4335480"/>
            <a:ext cx="67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.  216 g = _______ m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76520" y="4173480"/>
            <a:ext cx="48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98800" y="4297320"/>
            <a:ext cx="245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16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V="1" rot="16200000">
            <a:off x="5043240" y="21884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3" name=""/>
          <p:cNvCxnSpPr/>
          <p:nvPr/>
        </p:nvCxnSpPr>
        <p:spPr>
          <a:xfrm flipV="1" rot="16200000">
            <a:off x="6295680" y="22028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4" name=""/>
          <p:cNvCxnSpPr/>
          <p:nvPr/>
        </p:nvCxnSpPr>
        <p:spPr>
          <a:xfrm flipV="1" rot="16200000">
            <a:off x="7516440" y="22028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5" name=""/>
          <p:cNvCxnSpPr/>
          <p:nvPr/>
        </p:nvCxnSpPr>
        <p:spPr>
          <a:xfrm flipV="1" rot="16200000">
            <a:off x="2999160" y="48546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86" name=""/>
          <p:cNvCxnSpPr/>
          <p:nvPr/>
        </p:nvCxnSpPr>
        <p:spPr>
          <a:xfrm flipV="1" rot="16200000">
            <a:off x="3421440" y="48373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87" name=""/>
          <p:cNvCxnSpPr/>
          <p:nvPr/>
        </p:nvCxnSpPr>
        <p:spPr>
          <a:xfrm flipV="1" rot="16200000">
            <a:off x="3835800" y="485928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0-21T14:13:05Z</dcterms:modified>
  <cp:revision>64</cp:revision>
  <dc:subject/>
  <dc:title>Slide 1</dc:title>
</cp:coreProperties>
</file>